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8F9-CD86-4804-A951-773E0A13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D591-FC61-427B-9191-2980FFE9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792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792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B324-FF17-4286-B1FF-C00C2B56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332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576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332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576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BDB8-768B-4A3A-93D6-6AEFAE29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4ED-1B10-4BC8-A975-ACE9D655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B4E-CF8C-4353-BE79-CE449878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792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DE1-AA5C-494A-B5F9-A6F8FF6C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51C-8702-4069-933D-76BA775D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072-727E-40F9-B416-A5248A67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792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FA9-8DA0-468D-B4D0-80603778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792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FE18-5024-4F83-B340-F53CAB07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792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73C-4082-44CB-BBE3-91976914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Click to edit the outline text format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  <a:p>
            <a:pPr lvl="1" marL="653760" indent="-2512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Second Outline Level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  <a:p>
            <a:pPr lvl="2" marL="1005840" indent="-2008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Third Outline Level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  <a:p>
            <a:pPr lvl="3" marL="1407960" indent="-2008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Fourth Outline Level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  <a:p>
            <a:pPr lvl="4" marL="1810440" indent="-2008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Fifth Outline Level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  <a:p>
            <a:pPr lvl="5" marL="1810440" indent="-20088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Sixth Outline Level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  <a:p>
            <a:pPr lvl="6" marL="1810440" indent="-200880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Seventh Outline Level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CABA-FEAC-42BF-B36B-813868CFB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ental_chronometry" TargetMode="External"/><Relationship Id="rId2" Type="http://schemas.openxmlformats.org/officeDocument/2006/relationships/hyperlink" Target="http://www.exploratorium.edu/baseball/reactiontime.html" TargetMode="External"/><Relationship Id="rId3" Type="http://schemas.openxmlformats.org/officeDocument/2006/relationships/hyperlink" Target="http://www.humanbenchmark.com/tests/reactiontime/index.php" TargetMode="External"/><Relationship Id="rId4" Type="http://schemas.openxmlformats.org/officeDocument/2006/relationships/hyperlink" Target="http://www.topendsports.com/testing/reactime.h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How Do You React??????</a:t>
            </a: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By: Destiny Nickerson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4419720"/>
            <a:ext cx="119232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Problem</a:t>
            </a: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Baskerville Old Face"/>
              </a:rPr>
              <a:t>   </a:t>
            </a:r>
            <a:r>
              <a:rPr b="0" lang="en-US" sz="4800" spc="-1" strike="noStrike">
                <a:solidFill>
                  <a:srgbClr val="ffff00"/>
                </a:solidFill>
                <a:latin typeface="Baskerville Old Face"/>
              </a:rPr>
              <a:t>Is reaction time affected by the lighting in a room?</a:t>
            </a:r>
            <a:endParaRPr b="0" lang="en-US" sz="4800" spc="-1" strike="noStrike">
              <a:solidFill>
                <a:srgbClr val="ffff00"/>
              </a:solidFill>
              <a:latin typeface="Baskerville Old Face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21480" y="4191120"/>
            <a:ext cx="1622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Hypothesis</a:t>
            </a: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    </a:t>
            </a:r>
            <a:r>
              <a:rPr b="0" lang="en-US" sz="4800" spc="-1" strike="noStrike">
                <a:solidFill>
                  <a:srgbClr val="ffff00"/>
                </a:solidFill>
                <a:latin typeface="Baskerville Old Face"/>
              </a:rPr>
              <a:t>I predict that with less light the reaction time will be slower.</a:t>
            </a:r>
            <a:endParaRPr b="0" lang="en-US" sz="4800" spc="-1" strike="noStrike">
              <a:solidFill>
                <a:srgbClr val="ffff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Materials</a:t>
            </a: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6 people;  Julia, Rachel, Kasady, Andrew, Cole, and Scott.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An online test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Procedure</a:t>
            </a: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Ask and choose 6 people; Julia, Rachel, Kasady, Scott, Andrew, and Cole.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Find an online test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Have the people take the test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Come up with a conclusion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Rachel, Scott, Julia, Sarah, Andrew, Henry, and Kasady all did better without the lights on. Cole didn’t though.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Conclusion</a:t>
            </a: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My hypothesis was incorrect. Everyone except one person did </a:t>
            </a:r>
            <a:r>
              <a:rPr b="0" i="1" lang="en-US" sz="4000" spc="-1" strike="noStrike">
                <a:solidFill>
                  <a:srgbClr val="ffff00"/>
                </a:solidFill>
                <a:latin typeface="Baskerville Old Face"/>
              </a:rPr>
              <a:t>better</a:t>
            </a: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 with the lights off.</a:t>
            </a:r>
            <a:endParaRPr b="0" lang="en-US" sz="4000" spc="-1" strike="noStrike">
              <a:solidFill>
                <a:srgbClr val="ffff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Works Cited</a:t>
            </a:r>
            <a:endParaRPr b="0" lang="en-US" sz="4400" spc="-1" strike="noStrike">
              <a:solidFill>
                <a:srgbClr val="ffff00"/>
              </a:solidFill>
              <a:latin typeface="Baskerville Old Fa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Baskerville Old Face"/>
                <a:hlinkClick r:id="rId1"/>
              </a:rPr>
              <a:t>http://en.wikipedia.org/wiki/Mental_chronometry</a:t>
            </a:r>
            <a:endParaRPr b="0" lang="en-US" sz="3400" spc="-1" strike="noStrike">
              <a:solidFill>
                <a:srgbClr val="ffff00"/>
              </a:solidFill>
              <a:latin typeface="Baskerville Old Face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Baskerville Old Face"/>
                <a:hlinkClick r:id="rId2"/>
              </a:rPr>
              <a:t>http://www.exploratorium.edu/baseball/reactiontime.html</a:t>
            </a:r>
            <a:endParaRPr b="0" lang="en-US" sz="3400" spc="-1" strike="noStrike">
              <a:solidFill>
                <a:srgbClr val="ffff00"/>
              </a:solidFill>
              <a:latin typeface="Baskerville Old Face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Baskerville Old Face"/>
                <a:hlinkClick r:id="rId3"/>
              </a:rPr>
              <a:t>http://www.humanbenchmark.com/tests/reactiontime/index.php</a:t>
            </a:r>
            <a:endParaRPr b="0" lang="en-US" sz="3400" spc="-1" strike="noStrike">
              <a:solidFill>
                <a:srgbClr val="ffff00"/>
              </a:solidFill>
              <a:latin typeface="Baskerville Old Face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Baskerville Old Face"/>
                <a:hlinkClick r:id="rId4"/>
              </a:rPr>
              <a:t>http://www.topendsports.com/testing/reactime.htm</a:t>
            </a:r>
            <a:endParaRPr b="0" lang="en-US" sz="3400" spc="-1" strike="noStrike">
              <a:solidFill>
                <a:srgbClr val="ffff00"/>
              </a:solidFill>
              <a:latin typeface="Baskerville Old Face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0:12:10Z</dcterms:created>
  <dc:creator>USD376</dc:creator>
  <dc:description/>
  <dc:language>en-US</dc:language>
  <cp:lastModifiedBy>USD376</cp:lastModifiedBy>
  <dcterms:modified xsi:type="dcterms:W3CDTF">2010-12-15T14:26:28Z</dcterms:modified>
  <cp:revision>7</cp:revision>
  <dc:subject/>
  <dc:title>How Do You React??????</dc:title>
</cp:coreProperties>
</file>